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496-75AC-4B36-A5B0-4EAEA032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761-3DD6-4007-8535-F3BB02E8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2B6-5556-496C-B1AC-39B4603C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145-CF63-4790-A0CA-DD4191FF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2C1B-2C24-4D28-94F5-3D928682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38C3-1902-4621-883E-EE2F3443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97C5-6A2F-4840-A628-0B7DDC58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8A02-DAB3-4E3D-A26C-ABC5C1CC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7283-0A6C-4524-8848-330A3B4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F2E9-46EB-42D6-BB4D-571E2138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02F4-BAF7-4079-B88A-A829C58C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73F-83E7-4BF2-822E-A1BCA762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5FE7-F541-42A3-9C68-90ACC60F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50A3-C9C8-4DC6-A0B4-C695CD5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860F-0160-4A95-8319-E2ABBC5D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4052-4062-4319-8A3B-FE7196AD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B97C-442B-48D1-97C6-B333232E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38A8-DFCF-4D9D-B585-2F6D3D56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BBF5C-2B12-4194-84E1-AFB6E761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A7AA-3644-4BF9-AF8B-D0ACD307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FDCC-1D4C-4BFA-BEEA-E5AABDCF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C48C-37BC-4F9F-866D-454773B9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B7B-78C7-43A7-AA4D-7CF6041D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F353-0E91-4C00-9F7A-F234C45A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DB5B0-2503-4BA9-841D-45A869E6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5F00-90E0-4F84-9F93-57A8AF1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8D5B-C0AD-4F37-B1BD-2EE497E5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7DEC-DE7B-4371-8802-AB24E81D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F378-CE37-42C1-B4F9-522B4926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A014-E4EF-433E-BE7A-2759F936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144-06FB-4561-BCF4-9D51FF48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EF8-EC66-4603-AFD3-E1A0B9E0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6BB-4DFA-4006-B374-028D4005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48F-46C2-4ACE-8339-68CC84A6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588-0FB8-4224-8862-8A201516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805-212C-457F-9C79-D2B73995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74F8-FBF5-4C90-9EFD-9074555D6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5920-E7FA-442E-9BC0-6C9C3B144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AF86-BE74-4BE8-9539-AECCCC333FB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mple Present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by Kristi Rey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ctures from Oxford Picture Diction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CC-Logo4"/>
          <p:cNvPicPr/>
          <p:nvPr/>
        </p:nvPicPr>
        <p:blipFill>
          <a:blip r:embed="rId1"/>
          <a:stretch/>
        </p:blipFill>
        <p:spPr>
          <a:xfrm>
            <a:off x="4343400" y="5257800"/>
            <a:ext cx="1714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ve wor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057400" y="2928960"/>
            <a:ext cx="5122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ean the house /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ick up the childr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687680" y="2570040"/>
            <a:ext cx="539892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ok dinner /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e home / get ho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229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ave dinn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655640" y="2514600"/>
            <a:ext cx="63453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tch TV /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o homewor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536840" y="2590920"/>
            <a:ext cx="6311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lax /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ad the newspap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643040" y="2286000"/>
            <a:ext cx="61722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693800" y="2666880"/>
            <a:ext cx="62308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o to b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66604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o to slee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2600" y="2819520"/>
            <a:ext cx="566892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/ She /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ular subject (my friend, the boss, a co-work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 +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s, works, talks, does, spea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e Present Tense:  Us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day activities:  What do you do every d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ines, ha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tru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pelling rules: Third person verbs in simple present ten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1: verbs ending in –ch, -sh, -ss, and –x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 2:  final consonant + y -&gt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- y + 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50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038480" y="55627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98" h="21600">
                <a:moveTo>
                  <a:pt x="13692" y="10800"/>
                </a:moveTo>
                <a:lnTo>
                  <a:pt x="27705" y="3794"/>
                </a:lnTo>
                <a:lnTo>
                  <a:pt x="27705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nline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and answer these questions with a classma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ime do you get up in the morning? 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I get up at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ime do you go to bed?  How many hours do you sleep per nigh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eat breakfast?  What do you usually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wake-up"/>
          <p:cNvPicPr/>
          <p:nvPr/>
        </p:nvPicPr>
        <p:blipFill>
          <a:blip r:embed="rId1"/>
          <a:stretch/>
        </p:blipFill>
        <p:spPr>
          <a:xfrm>
            <a:off x="228600" y="2057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go_to_bed"/>
          <p:cNvPicPr/>
          <p:nvPr/>
        </p:nvPicPr>
        <p:blipFill>
          <a:blip r:embed="rId2"/>
          <a:stretch/>
        </p:blipFill>
        <p:spPr>
          <a:xfrm>
            <a:off x="228600" y="30862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sleep"/>
          <p:cNvPicPr/>
          <p:nvPr/>
        </p:nvPicPr>
        <p:blipFill>
          <a:blip r:embed="rId3"/>
          <a:stretch/>
        </p:blipFill>
        <p:spPr>
          <a:xfrm>
            <a:off x="228600" y="41148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eat_breakfast"/>
          <p:cNvPicPr/>
          <p:nvPr/>
        </p:nvPicPr>
        <p:blipFill>
          <a:blip r:embed="rId4"/>
          <a:stretch/>
        </p:blipFill>
        <p:spPr>
          <a:xfrm>
            <a:off x="228600" y="5105520"/>
            <a:ext cx="13716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you like to do in your free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exercise?  What exercises do you do or what sports do you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exercise"/>
          <p:cNvPicPr/>
          <p:nvPr/>
        </p:nvPicPr>
        <p:blipFill>
          <a:blip r:embed="rId1"/>
          <a:stretch/>
        </p:blipFill>
        <p:spPr>
          <a:xfrm>
            <a:off x="4267080" y="51814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relax"/>
          <p:cNvPicPr/>
          <p:nvPr/>
        </p:nvPicPr>
        <p:blipFill>
          <a:blip r:embed="rId2"/>
          <a:stretch/>
        </p:blipFill>
        <p:spPr>
          <a:xfrm>
            <a:off x="228600" y="29718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movie_theatre"/>
          <p:cNvPicPr/>
          <p:nvPr/>
        </p:nvPicPr>
        <p:blipFill>
          <a:blip r:embed="rId3"/>
          <a:stretch/>
        </p:blipFill>
        <p:spPr>
          <a:xfrm>
            <a:off x="4800600" y="28195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watch_TV"/>
          <p:cNvPicPr/>
          <p:nvPr/>
        </p:nvPicPr>
        <p:blipFill>
          <a:blip r:embed="rId4"/>
          <a:stretch/>
        </p:blipFill>
        <p:spPr>
          <a:xfrm>
            <a:off x="228600" y="19051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read"/>
          <p:cNvPicPr/>
          <p:nvPr/>
        </p:nvPicPr>
        <p:blipFill>
          <a:blip r:embed="rId5"/>
          <a:stretch/>
        </p:blipFill>
        <p:spPr>
          <a:xfrm>
            <a:off x="6400800" y="28954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talk_on_phone"/>
          <p:cNvPicPr/>
          <p:nvPr/>
        </p:nvPicPr>
        <p:blipFill>
          <a:blip r:embed="rId6"/>
          <a:stretch/>
        </p:blipFill>
        <p:spPr>
          <a:xfrm>
            <a:off x="3048120" y="28195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hores do you do in your househol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you do at your job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cook"/>
          <p:cNvPicPr/>
          <p:nvPr/>
        </p:nvPicPr>
        <p:blipFill>
          <a:blip r:embed="rId1"/>
          <a:stretch/>
        </p:blipFill>
        <p:spPr>
          <a:xfrm>
            <a:off x="228600" y="2057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do_laundry"/>
          <p:cNvPicPr/>
          <p:nvPr/>
        </p:nvPicPr>
        <p:blipFill>
          <a:blip r:embed="rId2"/>
          <a:stretch/>
        </p:blipFill>
        <p:spPr>
          <a:xfrm>
            <a:off x="5867280" y="316224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iron"/>
          <p:cNvPicPr/>
          <p:nvPr/>
        </p:nvPicPr>
        <p:blipFill>
          <a:blip r:embed="rId3"/>
          <a:stretch/>
        </p:blipFill>
        <p:spPr>
          <a:xfrm>
            <a:off x="228600" y="31240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sweep"/>
          <p:cNvPicPr/>
          <p:nvPr/>
        </p:nvPicPr>
        <p:blipFill>
          <a:blip r:embed="rId4"/>
          <a:stretch/>
        </p:blipFill>
        <p:spPr>
          <a:xfrm>
            <a:off x="2362320" y="32004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vacuum"/>
          <p:cNvPicPr/>
          <p:nvPr/>
        </p:nvPicPr>
        <p:blipFill>
          <a:blip r:embed="rId5"/>
          <a:stretch/>
        </p:blipFill>
        <p:spPr>
          <a:xfrm>
            <a:off x="4114800" y="3191040"/>
            <a:ext cx="16383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to negati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ike my jo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ve benef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a nice bo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to negati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has a lot of 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drives to his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w employee comes ear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co-worker talks to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ke up / get 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977760" y="2286000"/>
            <a:ext cx="74804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/ you / we / the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ral subject (the workers, the peopl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do not (don’t) + ver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/ she /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ular su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does not (doesn’t) + verb (no –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statements to ques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ike my jo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ve benef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a nice bo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statements to ques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has a lot of 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drives to his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w employee comes ear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co-worker talks to y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I / you / we / they + verb +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 / she / it + verb +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rtner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twomen"/>
          <p:cNvPicPr/>
          <p:nvPr/>
        </p:nvPicPr>
        <p:blipFill>
          <a:blip r:embed="rId1"/>
          <a:stretch/>
        </p:blipFill>
        <p:spPr>
          <a:xfrm>
            <a:off x="3276720" y="2362320"/>
            <a:ext cx="285264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nline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z:  Questions and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+ Triv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 the negatives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Present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 the negatives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 yes/no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eMM"/>
          <p:cNvPicPr/>
          <p:nvPr/>
        </p:nvPicPr>
        <p:blipFill>
          <a:blip r:embed="rId1"/>
          <a:stretch/>
        </p:blipFill>
        <p:spPr>
          <a:xfrm>
            <a:off x="3200400" y="2209680"/>
            <a:ext cx="31939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ime to write a paragrap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structor will show you a picture.  Write a paragraph of 6 – 10 sentences describing the daily actions of the woman in the picture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simple present tense verbs (affirmative and negativ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topic sentence and conclu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write"/>
          <p:cNvPicPr/>
          <p:nvPr/>
        </p:nvPicPr>
        <p:blipFill>
          <a:blip r:embed="rId1"/>
          <a:stretch/>
        </p:blipFill>
        <p:spPr>
          <a:xfrm>
            <a:off x="152280" y="17524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dailyacts1.jpg"/>
          <p:cNvPicPr/>
          <p:nvPr/>
        </p:nvPicPr>
        <p:blipFill>
          <a:blip r:embed="rId1">
            <a:lum contrast="-10000"/>
          </a:blip>
          <a:srcRect l="16644" t="7780" r="12366" b="10003"/>
          <a:stretch/>
        </p:blipFill>
        <p:spPr>
          <a:xfrm>
            <a:off x="914400" y="380880"/>
            <a:ext cx="70102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ke a shower / get dress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9073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at breakfast / make lun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638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ke the children to scho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727280" y="2666880"/>
            <a:ext cx="604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ke the bus to school / drive/go to wor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728720" y="2933640"/>
            <a:ext cx="5357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 in school /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6754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o to the mark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757520" y="2554200"/>
            <a:ext cx="5176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4:26:10Z</dcterms:created>
  <dc:creator>Kristi Reyes</dc:creator>
  <dc:description/>
  <dc:language>en-US</dc:language>
  <cp:lastModifiedBy>Owner</cp:lastModifiedBy>
  <dcterms:modified xsi:type="dcterms:W3CDTF">2009-07-28T15:45:30Z</dcterms:modified>
  <cp:revision>12</cp:revision>
  <dc:subject/>
  <dc:title>Simple Present Tense</dc:title>
</cp:coreProperties>
</file>